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0A80-DACB-43F3-97E3-AFC70C560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roduction:  </a:t>
            </a:r>
            <a:r>
              <a:rPr b="0" lang="en-US" sz="1000" spc="-1" strike="noStrike">
                <a:solidFill>
                  <a:srgbClr val="000000"/>
                </a:solidFill>
                <a:latin typeface="Calibri"/>
              </a:rPr>
              <a:t>I really like to listen to classical music.  Many of my friends enjoy lite-rock.  We know that there are many types of music that people listen to.  Think about your favorite type of music then Talk To Your Partner.   Share out a few respons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ust as we can classify different types of books, we can also classify different types of literature or gen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more you read, the more you will be able to identify the type or genre that you prefer.  I have friends that only like to read murder mysteries.  I enjoy reading biographies of people in the news to take a ‘peek’ into their lives, recollections of their childhood and how they developed their careers into well known individual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word genre is  Frenchfor kind  --- books are classified into different genres; each have different characteristic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nk about the best book you have every read – use a sticky note and quickly write down why you would describe it as the best boo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two major categories, or genres are </a:t>
            </a:r>
            <a:r>
              <a:rPr b="1" lang="en-US" sz="1000" spc="-1" strike="noStrike">
                <a:solidFill>
                  <a:srgbClr val="000000"/>
                </a:solidFill>
                <a:latin typeface="Calibri"/>
              </a:rPr>
              <a:t>fiction </a:t>
            </a:r>
            <a:r>
              <a:rPr b="0" i="1" lang="en-US" sz="1000" spc="-1" strike="noStrike">
                <a:solidFill>
                  <a:srgbClr val="000000"/>
                </a:solidFill>
                <a:latin typeface="Calibri"/>
              </a:rPr>
              <a:t>( about things, events, and characters that are not true) </a:t>
            </a:r>
            <a:r>
              <a:rPr b="1" lang="en-US" sz="1000" spc="-1" strike="noStrike">
                <a:solidFill>
                  <a:srgbClr val="000000"/>
                </a:solidFill>
                <a:latin typeface="Calibri"/>
              </a:rPr>
              <a:t> </a:t>
            </a:r>
            <a:r>
              <a:rPr b="0" i="1" lang="en-US" sz="1000" spc="-1" strike="noStrike">
                <a:solidFill>
                  <a:srgbClr val="000000"/>
                </a:solidFill>
                <a:latin typeface="Calibri"/>
              </a:rPr>
              <a:t>and </a:t>
            </a:r>
            <a:r>
              <a:rPr b="1" lang="en-US" sz="1000" spc="-1" strike="noStrike">
                <a:solidFill>
                  <a:srgbClr val="000000"/>
                </a:solidFill>
                <a:latin typeface="Calibri"/>
              </a:rPr>
              <a:t>nonfiction </a:t>
            </a:r>
            <a:r>
              <a:rPr b="0" i="1" lang="en-US" sz="1000" spc="-1" strike="noStrike">
                <a:solidFill>
                  <a:srgbClr val="000000"/>
                </a:solidFill>
                <a:latin typeface="Calibri"/>
              </a:rPr>
              <a:t>(about things, events, and people that are based on fact).  From these two categories, we can classify even further.  For example, fiction can be divided into poetry, drama (plays) or prose.  Those categories tell us about the form of the wor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 key to becoming a good reader is to read many different genres because each genre has a distinct style. One thing to keep in mind while reading different texts; genre categories aren’t always clear cut.  You can have a crime/mystery story set in the future (science fiction) or in the past (historical fic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et’s look at some of the descriptions of the common genre that we see in our classroom librar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6FE3-F462-4868-B589-023D0ED3C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55F7-6742-40B1-8EDD-8C61FB067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7F97-16DA-42A3-84B4-6F3083D2D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8523-1565-40AC-823B-32BEFF321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C330-9C97-46A4-8BBF-7C2FEEF91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5B4C-D0D8-4923-88C4-283A4C4BD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can be changed to meet the needs of your students.  The goal is that students look at books and begin to make decisions about genre based on their prior knowledge and their understanding following the slides in this power point.   This activity can help students develop ownership in their classroom library while giving them a good preview of the books available.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4FD5-7F24-4232-A3F2-B0C12F429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31B47-7B29-4D32-86FA-7839E7008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4C72-5D5C-47D1-8B89-0D7666B3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7189E-287C-46B4-8F2E-2C63A6B04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87F3F-9B3F-453E-A7A0-541CD4FF4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22191-5445-481C-8B33-E70D10FA0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E23DD-C1F4-4C5E-B217-C768D9091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5FD6D-2494-452E-905B-750160BDC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CA8E4-87A6-4766-B59F-F205646D6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13BDA-B669-421E-9BC1-B3FD41DED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A8B60-B1F5-4569-8B6D-8C99BBD9D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78907-15F8-4108-B1A9-07682CE4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637CC-FEF5-4948-A075-FDE3FB1E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AC3D6-5684-4153-AF4B-273D9B3C9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57065-3288-437C-BE2B-EBD4C39CA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06345-750D-4152-AF76-B30F17D12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F4573-E81A-43D1-9D72-4F1AF8B2D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97EC7-6515-49D1-A81E-DBFF7C2DB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D417-D914-45F3-9073-98DA7A9B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52B98-47BF-4751-A7E1-B3572396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DFD6E-939D-4BF3-8EA2-308808F24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449B-BB4D-44BF-A97C-ED27E98C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54E0-BC85-4EFC-93B9-B1964510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E910-13B1-4060-AA70-2DFCF330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4633-7594-4324-A1D7-069DC1CA6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033E-A7F8-498C-A952-917055A4F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SGP4076.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Bold"/>
              </a:rPr>
              <a:t>Click to edit the title text format</a:t>
            </a:r>
            <a:endParaRPr b="0" lang="en-US" sz="4400" spc="-1" strike="noStrike">
              <a:solidFill>
                <a:srgbClr val="ffffff"/>
              </a:solidFill>
              <a:latin typeface="AGaramond Bold"/>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03D9-5D0B-48B9-9E47-DD68331DA6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146.74.224.231/archives/stack%2520o%2520books.jpg&amp;imgrefurl=http://146.74.224.231/archives/libraries/milpitas_library/index.html&amp;h=471&amp;w=363&amp;sz=80&amp;hl=en&amp;start=3&amp;sig2=hKBoEnWicBCqhwwaBuqf9w&amp;tbnid=1AsY0sqjH3EYCM:&amp;tbnh=129&amp;tbnw=99&amp;ei=SA-SSPvmOpWIiwHb5YTaBw&amp;prev=/images%3Fq%3Dstack%2Bof%2Bbooks%26gbv%3D2%26hl%3Den%26sa%3D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com/imgres?imgurl=http://www.fpp.co.uk/online/std/images/Pearl_Harbor.jpg&amp;imgrefurl=http://www.fpp.co.uk/Letters/History_03/TedH130103.html&amp;h=275&amp;w=376&amp;sz=19&amp;hl=en&amp;start=5&amp;sig2=FgnyGsjZAetY1FMau6C6Fg&amp;tbnid=PzV1f8G9sJA6ZM:&amp;tbnh=89&amp;tbnw=122&amp;ei=XwiSSJHxGpfiigGsu_3ZBw&amp;prev=/images%3Fq%3DPearl%2BHarbor%26gbv%3D2%26hl%3Den%26sa%3D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murdermysterycanada.com/images/MYSTERY_LOGO_BLACK_2004.GIF&amp;imgrefurl=http://www.murdermysterycanada.com/&amp;h=512&amp;w=640&amp;sz=12&amp;hl=en&amp;start=5&amp;sig2=4nMQPwu2BxAMsVqMUU4HfQ&amp;tbnid=pfADo0CVpjxB-M:&amp;tbnh=110&amp;tbnw=137&amp;ei=dwySSOvpHof2iAHGrdjZBw&amp;prev=/images%3Fq%3Dmystery%26gbv%3D2%26hl%3Den%26sa%3D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genrefluent.com/strasser.jpg&amp;imgrefurl=http://youngadultbookreviews.com/2008/02/&amp;h=475&amp;w=314&amp;sz=46&amp;hl=en&amp;start=12&amp;sig2=H9BbDELLIC0a-SDe6UiAog&amp;tbnid=kYsQjgfExQ5CzM:&amp;tbnh=129&amp;tbnw=85&amp;ei=dAqSSLurC4_eigGfj4HaBw&amp;prev=/images%3Fq%3Drealistic%2Bfiction%26gbv%3D2%26hl%3Den%26sa%3D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762120"/>
            <a:ext cx="42670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70c0"/>
                </a:solidFill>
                <a:latin typeface="Bauhaus 93"/>
              </a:rPr>
              <a:t>GENRE</a:t>
            </a:r>
            <a:endParaRPr b="0" lang="en-US" sz="9600" spc="-1" strike="noStrike">
              <a:solidFill>
                <a:srgbClr val="000000"/>
              </a:solidFill>
              <a:latin typeface="Calibri"/>
            </a:endParaRPr>
          </a:p>
        </p:txBody>
      </p:sp>
      <p:pic>
        <p:nvPicPr>
          <p:cNvPr id="91" name="Picture 2" descr="http://tbn0.google.com/images?q=tbn:1AsY0sqjH3EYCM:http://146.74.224.231/archives/stack%2520o%2520books.jpg">
            <a:hlinkClick r:id="rId1"/>
          </p:cNvPr>
          <p:cNvPicPr/>
          <p:nvPr/>
        </p:nvPicPr>
        <p:blipFill>
          <a:blip r:embed="rId2"/>
          <a:stretch/>
        </p:blipFill>
        <p:spPr>
          <a:xfrm>
            <a:off x="4800600" y="129528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2060"/>
                </a:solidFill>
                <a:latin typeface="Calibri"/>
              </a:rPr>
              <a:t>Fantasy</a:t>
            </a:r>
            <a:endParaRPr b="0" lang="en-US" sz="7200" spc="-1" strike="noStrike">
              <a:solidFill>
                <a:srgbClr val="000000"/>
              </a:solidFill>
              <a:latin typeface="Calibri"/>
            </a:endParaRPr>
          </a:p>
        </p:txBody>
      </p:sp>
      <p:sp>
        <p:nvSpPr>
          <p:cNvPr id="93" name=""/>
          <p:cNvSpPr txBox="1"/>
          <p:nvPr/>
        </p:nvSpPr>
        <p:spPr>
          <a:xfrm>
            <a:off x="151920" y="1600200"/>
            <a:ext cx="899172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elements that are not realisti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ing anim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ical pow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set in a medieval unive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y involving mythical beings</a:t>
            </a:r>
            <a:endParaRPr b="0" lang="en-US" sz="2800" spc="-1" strike="noStrike">
              <a:solidFill>
                <a:srgbClr val="000000"/>
              </a:solidFill>
              <a:latin typeface="Calibri"/>
            </a:endParaRPr>
          </a:p>
        </p:txBody>
      </p:sp>
      <p:pic>
        <p:nvPicPr>
          <p:cNvPr id="94" name="Picture 2" descr="C:\Users\jawtry\AppData\Local\Microsoft\Windows\Temporary Internet Files\Content.IE5\WG4O5XEZ\MCj04123520000[1].wmf"/>
          <p:cNvPicPr/>
          <p:nvPr/>
        </p:nvPicPr>
        <p:blipFill>
          <a:blip r:embed="rId1"/>
          <a:stretch/>
        </p:blipFill>
        <p:spPr>
          <a:xfrm>
            <a:off x="6172200" y="2895480"/>
            <a:ext cx="2438280" cy="35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b050"/>
                </a:solidFill>
                <a:latin typeface="Calibri"/>
              </a:rPr>
              <a:t>Historical Fiction</a:t>
            </a:r>
            <a:endParaRPr b="0" lang="en-US" sz="4400" spc="-1" strike="noStrike">
              <a:solidFill>
                <a:srgbClr val="000000"/>
              </a:solidFill>
              <a:latin typeface="Calibri"/>
            </a:endParaRPr>
          </a:p>
        </p:txBody>
      </p:sp>
      <p:sp>
        <p:nvSpPr>
          <p:cNvPr id="96" name=""/>
          <p:cNvSpPr txBox="1"/>
          <p:nvPr/>
        </p:nvSpPr>
        <p:spPr>
          <a:xfrm>
            <a:off x="456840" y="2971800"/>
            <a:ext cx="518148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es centered around the basis of a partially historic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vel set in a historical period</a:t>
            </a:r>
            <a:endParaRPr b="0" lang="en-US" sz="3200" spc="-1" strike="noStrike">
              <a:solidFill>
                <a:srgbClr val="000000"/>
              </a:solidFill>
              <a:latin typeface="Calibri"/>
            </a:endParaRPr>
          </a:p>
        </p:txBody>
      </p:sp>
      <p:pic>
        <p:nvPicPr>
          <p:cNvPr id="97" name="Picture 4" descr="Early sunday Morning"/>
          <p:cNvPicPr/>
          <p:nvPr/>
        </p:nvPicPr>
        <p:blipFill>
          <a:blip r:embed="rId1"/>
          <a:stretch/>
        </p:blipFill>
        <p:spPr>
          <a:xfrm>
            <a:off x="5867280" y="3429000"/>
            <a:ext cx="2971800" cy="3429000"/>
          </a:xfrm>
          <a:prstGeom prst="rect">
            <a:avLst/>
          </a:prstGeom>
          <a:ln w="0">
            <a:noFill/>
          </a:ln>
        </p:spPr>
      </p:pic>
      <p:pic>
        <p:nvPicPr>
          <p:cNvPr id="98" name="Picture 6" descr="http://tbn0.google.com/images?q=tbn:PzV1f8G9sJA6ZM:http://www.fpp.co.uk/online/std/images/Pearl_Harbor.jpg">
            <a:hlinkClick r:id="rId2"/>
          </p:cNvPr>
          <p:cNvPicPr/>
          <p:nvPr/>
        </p:nvPicPr>
        <p:blipFill>
          <a:blip r:embed="rId3"/>
          <a:stretch/>
        </p:blipFill>
        <p:spPr>
          <a:xfrm>
            <a:off x="533520" y="228600"/>
            <a:ext cx="30477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426708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15968"/>
                </a:solidFill>
                <a:latin typeface="comic"/>
              </a:rPr>
              <a:t>Mystery</a:t>
            </a:r>
            <a:endParaRPr b="0" lang="en-US" sz="6600" spc="-1" strike="noStrike">
              <a:solidFill>
                <a:srgbClr val="000000"/>
              </a:solidFill>
              <a:latin typeface="Calibri"/>
            </a:endParaRPr>
          </a:p>
        </p:txBody>
      </p:sp>
      <p:sp>
        <p:nvSpPr>
          <p:cNvPr id="100" name=""/>
          <p:cNvSpPr txBox="1"/>
          <p:nvPr/>
        </p:nvSpPr>
        <p:spPr>
          <a:xfrm>
            <a:off x="456840" y="1600200"/>
            <a:ext cx="441972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vel involving</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ngenes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a puzzling event or situ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hing unkn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a crim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ered around a person who investigates wrongdo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ered around a person or persons employed to obtain secret information</a:t>
            </a:r>
            <a:endParaRPr b="0" lang="en-US" sz="2200" spc="-1" strike="noStrike">
              <a:solidFill>
                <a:srgbClr val="000000"/>
              </a:solidFill>
              <a:latin typeface="Calibri"/>
            </a:endParaRPr>
          </a:p>
        </p:txBody>
      </p:sp>
      <p:pic>
        <p:nvPicPr>
          <p:cNvPr id="101" name="Picture 4" descr="http://tbn0.google.com/images?q=tbn:pfADo0CVpjxB-M:http://www.murdermysterycanada.com/images/MYSTERY_LOGO_BLACK_2004.GIF">
            <a:hlinkClick r:id="rId1"/>
          </p:cNvPr>
          <p:cNvPicPr/>
          <p:nvPr/>
        </p:nvPicPr>
        <p:blipFill>
          <a:blip r:embed="rId2"/>
          <a:stretch/>
        </p:blipFill>
        <p:spPr>
          <a:xfrm>
            <a:off x="4800600" y="1828800"/>
            <a:ext cx="3886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39625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6c0a"/>
                </a:solidFill>
                <a:latin typeface="Calibri"/>
              </a:rPr>
              <a:t>REALISTIC FICTION</a:t>
            </a:r>
            <a:endParaRPr b="0" lang="en-US" sz="4800" spc="-1" strike="noStrike">
              <a:solidFill>
                <a:srgbClr val="000000"/>
              </a:solidFill>
              <a:latin typeface="Calibri"/>
            </a:endParaRPr>
          </a:p>
        </p:txBody>
      </p:sp>
      <p:sp>
        <p:nvSpPr>
          <p:cNvPr id="103" name="PlaceHolder 2"/>
          <p:cNvSpPr>
            <a:spLocks noGrp="1"/>
          </p:cNvSpPr>
          <p:nvPr>
            <p:ph/>
          </p:nvPr>
        </p:nvSpPr>
        <p:spPr>
          <a:xfrm>
            <a:off x="457200" y="2286000"/>
            <a:ext cx="3008160" cy="32767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ories that take place in modern tim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aracters are involved in events that could happen</a:t>
            </a:r>
            <a:endParaRPr b="0" lang="en-US" sz="2800" spc="-1" strike="noStrike">
              <a:solidFill>
                <a:srgbClr val="000000"/>
              </a:solidFill>
              <a:latin typeface="Calibri"/>
            </a:endParaRPr>
          </a:p>
        </p:txBody>
      </p:sp>
      <p:pic>
        <p:nvPicPr>
          <p:cNvPr id="104" name="Picture 2" descr="http://tbn0.google.com/images?q=tbn:kYsQjgfExQ5CzM:http://www.genrefluent.com/strasser.jpg">
            <a:hlinkClick r:id="rId1"/>
          </p:cNvPr>
          <p:cNvPicPr/>
          <p:nvPr/>
        </p:nvPicPr>
        <p:blipFill>
          <a:blip r:embed="rId2"/>
          <a:stretch/>
        </p:blipFill>
        <p:spPr>
          <a:xfrm>
            <a:off x="4800600" y="838080"/>
            <a:ext cx="380988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504960" y="914040"/>
            <a:ext cx="5181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nprior"/>
              </a:rPr>
              <a:t>Science Fiction</a:t>
            </a:r>
            <a:endParaRPr b="0" lang="en-US" sz="4400" spc="-1" strike="noStrike">
              <a:solidFill>
                <a:srgbClr val="000000"/>
              </a:solidFill>
              <a:latin typeface="Calibri"/>
            </a:endParaRPr>
          </a:p>
        </p:txBody>
      </p:sp>
      <p:sp>
        <p:nvSpPr>
          <p:cNvPr id="106" name=""/>
          <p:cNvSpPr txBox="1"/>
          <p:nvPr/>
        </p:nvSpPr>
        <p:spPr>
          <a:xfrm>
            <a:off x="2819160" y="1752120"/>
            <a:ext cx="6172200" cy="480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es that often tell about science and technology of the futu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ing partially true fictions laws or theories of scienc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utur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pac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 different worl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different universe or dimension</a:t>
            </a:r>
            <a:endParaRPr b="0" lang="en-US" sz="2800" spc="-1" strike="noStrike">
              <a:solidFill>
                <a:srgbClr val="000000"/>
              </a:solidFill>
              <a:latin typeface="Calibri"/>
            </a:endParaRPr>
          </a:p>
        </p:txBody>
      </p:sp>
      <p:pic>
        <p:nvPicPr>
          <p:cNvPr id="107" name="Picture 2" descr="http://tbn0.google.com/images?q=tbn:EcCpAQ7ouOgPwM:http://logos.simpleplants.com/Science-Fiction-Space/largeimages/Science-Fiction-Space-City_-_Futuristic.jpg"/>
          <p:cNvPicPr/>
          <p:nvPr/>
        </p:nvPicPr>
        <p:blipFill>
          <a:blip r:embed="rId1"/>
          <a:stretch/>
        </p:blipFill>
        <p:spPr>
          <a:xfrm>
            <a:off x="0" y="1371600"/>
            <a:ext cx="3048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Bold"/>
              </a:rPr>
              <a:t>Let’s build our own </a:t>
            </a:r>
            <a:r>
              <a:rPr b="0" i="1" lang="en-US" sz="4000" spc="-1" strike="noStrike">
                <a:solidFill>
                  <a:srgbClr val="ffffff"/>
                </a:solidFill>
                <a:latin typeface="AGaramond Bold"/>
              </a:rPr>
              <a:t>Classroom Library</a:t>
            </a:r>
            <a:endParaRPr b="0" lang="en-US" sz="4000" spc="-1" strike="noStrike">
              <a:solidFill>
                <a:srgbClr val="ffffff"/>
              </a:solidFill>
              <a:latin typeface="AGaramond Bold"/>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Pick 2 books from the circle, look at them, decide what genre each book fits in.</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Go to the chart paper that best fits each book.</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With the people at the chart, decide how you will name your tub.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Make a card for your book tub and tape the card to the tub.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Place the tub in our classroom library.</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8:32:09Z</dcterms:created>
  <dc:creator>Loess Hills</dc:creator>
  <dc:description/>
  <dc:language>en-US</dc:language>
  <cp:lastModifiedBy>lhockenberry</cp:lastModifiedBy>
  <dcterms:modified xsi:type="dcterms:W3CDTF">2008-08-16T01:42:13Z</dcterms:modified>
  <cp:revision>14</cp:revision>
  <dc:subject/>
  <dc:title>Fantasy</dc:title>
</cp:coreProperties>
</file>